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93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5680"/>
            <a:ext cx="85993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5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5840" y="4585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716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452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716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452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5993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2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93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7120"/>
            <a:ext cx="85993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26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5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5840" y="4585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5680"/>
            <a:ext cx="85993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5993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2127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0800" indent="-20952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2800" indent="-21132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2800" indent="-21132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2800" indent="-21132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4800"/>
            <a:ext cx="86072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36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TS: Microarray Time Series and Network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57720" y="6626160"/>
            <a:ext cx="532764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2387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act:   korbinian.strimmer@lmu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387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site: http://www.statistik.lmu.de/~strimmer/software/genet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776240" y="6651720"/>
            <a:ext cx="1397160" cy="62208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14200" y="6694560"/>
            <a:ext cx="1490760" cy="57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375080" y="757080"/>
            <a:ext cx="5577120" cy="443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7018200" y="4738680"/>
            <a:ext cx="2970360" cy="2079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5000" y="746280"/>
            <a:ext cx="51102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neT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ocuses on the analysis of geno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 series data (e.g. periodicity testing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the inference of large-scale gen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gene relevance networ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ferences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ichert et al. Bioinformatics (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chäfer and Strimmer. Bioinformatics (20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packages need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rpcor, locfdr (requir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raph, Rgraphviz (opt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3263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21000" y="4711680"/>
            <a:ext cx="35114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